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46A5A-7ADB-4549-AFC2-112C8599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88B0D-13E2-4981-8D1D-DE2D02C2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719BC-CC19-43E5-94CD-D997C7DE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16B2C-ADF6-4EB8-BBD9-CCFC66B3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7E3F-966A-4C48-A7A6-5CF25E91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9822-D575-4D7A-8269-31920C86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0CBF-D92A-4D7A-BE97-D3B6617A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AB6F-7021-439C-862E-29A0A264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A99F-95BA-4B5C-9A49-CB7F62BB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530E-4FBF-47A0-8E25-F97CBBC8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52F2-922E-409B-B4EE-FA1E36A8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338C-D5AC-4E5F-91DB-D7CE5EBD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5D38-7DBE-4FF9-9CA2-15550836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2DC32-25AB-4EC9-8D3F-D0DBE290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5208-F8A4-4244-9ABB-C295F7F3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3E5D-A7B7-4563-92E3-5BF2F5EA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199F-D387-44BB-9E77-26786F36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CF7FB-FA5F-4FB5-B0B5-B70F3210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4EC16-136C-41B5-B246-AD6C4896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2689-FCB5-41D2-B4B0-6F759382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E5A0-D599-4C75-85B4-45EFA04D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D3C7-80DF-4DD0-866E-A7B3EC2F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4759A-7CB0-484D-AB70-90E0364B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782C5-3955-4DE8-BD0A-C9053C95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F6E6-B05A-4937-B04C-D4205AF02C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9F2A-C940-4FE3-912D-3F389DCBC2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c/c9/Isosceles-right-triangle.svg/351px-Isosceles-right-triangle.svg.png&amp;imgrefurl=http://commons.wikimedia.org/wiki/Image:Isosceles-right-triangle.svg&amp;h=351&amp;w=351&amp;sz=3&amp;hl=en&amp;start=5&amp;usg=__u9XjLDWhBkRYNiALW5Yr1vIsOvw=&amp;tbnid=IUtbWlcILG0AdM:&amp;tbnh=120&amp;tbnw=120&amp;prev=/images%3Fq%3Dright%2Btriangle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pload.wikimedia.org/wikipedia/commons/thumb/a/ac/Triangle-obtuse.svg/460px-Triangle-obtuse.svg.png&amp;imgrefurl=http://commons.wikimedia.org/wiki/Image:Triangle-obtuse.svg&amp;h=440&amp;w=460&amp;sz=14&amp;hl=en&amp;start=1&amp;usg=__BGlwe7Z5tFqRwryXAQ80vgqGtMg=&amp;tbnid=nKIVeAFfQTbIsM:&amp;tbnh=122&amp;tbnw=128&amp;prev=/images%3Fq%3Dobtuse%2Btriangle%26gbv%3D2%26hl%3Den%26safe%3Dactive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Triangle Altitud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ur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GD:  Euler Line.  (2008)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llumination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http://illuminations.nctm.org/ActivityDetail.aspx?ID=5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gomolony, A. The Altitudes (2008). 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ut-the-Kno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http://www.cut-the-knot.org/triangle/altitudes.shtm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itu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5280" y="1904760"/>
            <a:ext cx="74678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n altitud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is it look lik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it change in different triangl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itu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a triangle, an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altitud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is a segment of the line through a vertex perpendicular to the opposite sid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this look like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it change in different triangl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 the next several slides, use an annotation pen to label the type of triangle and draw the altitudes for each triang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clipart_triangle_2"/>
          <p:cNvPicPr/>
          <p:nvPr/>
        </p:nvPicPr>
        <p:blipFill>
          <a:blip r:embed="rId1"/>
          <a:stretch/>
        </p:blipFill>
        <p:spPr>
          <a:xfrm>
            <a:off x="1371600" y="380880"/>
            <a:ext cx="6324480" cy="55659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1447920" y="60199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______________________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iang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lipart_triangle_1"/>
          <p:cNvPicPr/>
          <p:nvPr/>
        </p:nvPicPr>
        <p:blipFill>
          <a:blip r:embed="rId1"/>
          <a:stretch/>
        </p:blipFill>
        <p:spPr>
          <a:xfrm>
            <a:off x="3048120" y="152280"/>
            <a:ext cx="3452760" cy="58676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2209680" y="6095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______________________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iang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351px-Isosceles-right-triang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80880"/>
            <a:ext cx="4953240" cy="49532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2133720" y="57150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______________________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iang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460px-Triangle-obtu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28600"/>
            <a:ext cx="5334120" cy="5084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6"/>
          <p:cNvSpPr/>
          <p:nvPr/>
        </p:nvSpPr>
        <p:spPr>
          <a:xfrm>
            <a:off x="2057400" y="56386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_________________________________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riang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itudes On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actice creating altitudes using the Pop it up on http://www.cut-the-knot.org/triangle/altitudes.shtm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the altitudes and the Orthocenter using http://illuminations.nctm.org/ActivityDetail.aspx?ID=5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ltitu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w, can you answer the questions from the start of the less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an altitud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es is it look lik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w does it change in different triangl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1:30:47Z</dcterms:created>
  <dc:creator>CABELL BOE</dc:creator>
  <dc:description/>
  <dc:language>en-US</dc:language>
  <cp:lastModifiedBy>Lezlie</cp:lastModifiedBy>
  <dcterms:modified xsi:type="dcterms:W3CDTF">2008-11-15T18:49:19Z</dcterms:modified>
  <cp:revision>3</cp:revision>
  <dc:subject/>
  <dc:title>Triangles</dc:title>
</cp:coreProperties>
</file>